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87D-AF0E-496A-8D3B-D1B9E445C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ACB0-A227-4407-97B9-D6FD350C4D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F6D2-736D-44EC-B3A7-2664A00B1E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387-EFD3-4751-A395-10ED8C632B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B8C-65FC-4668-A86E-107B538610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8DC-3E0B-4C1C-9DBD-F49D4A92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432-A58B-4B0B-A18B-A604F43C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23FDF-5DAC-43C6-BD0A-C62E7210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1A612-CD07-4E75-A2F1-79835D2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E325-83E9-4FF2-8F83-5BF7E52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9FF3-9A9C-4164-94CF-C2FE63E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9319D-A36A-4E58-BBD2-DCAFB1B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64EEA-8676-4732-959F-DE64126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9427-1A49-421E-AC1C-9A8A0C61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F84ED-D228-46B2-B7CF-2F63FE4A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78741-80B2-4A54-BB91-15723E49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B5BBC-0B8A-4BB8-9B47-71B5FF86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F99-EDA2-43AC-9CB1-15FBE8E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6ABB8-2CAE-40EE-BD20-5441C342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608ED-B881-47CC-BF37-E62B7756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92631-F2DA-4CB9-A1E9-1120921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737AA-9661-458D-89E6-8828F53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415A6-E667-468C-9A04-2A4FD45A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34826-DA47-4D5B-9DF3-64661E88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4806-4F50-411D-8821-7138E7D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538C7-0460-4FF3-98B8-6FC25FB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A8FCB-95FF-489C-B751-7B3A1A59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81611-62C6-40DC-8BA1-79E45EF2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F8C-3BBF-46B2-B864-BC65194F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5B4EA-7A1B-4BF3-8AE8-F466743A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5AEE48-A226-4C90-BA00-870A2827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EC1222-E558-499C-9C68-D69C1EB3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D68C73-3198-4C65-B192-EE5CBB4E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2D363B-8C18-4F08-B93A-84E2EDE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B1FAEE-ADEA-4FED-ADE2-90C88239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262B68-1CB9-4E64-AA28-2138D2DA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972170-E5F4-48AC-99F0-440A17F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176F01-60C2-45FF-B84C-391E810D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954280-EEA5-4927-A621-800F4C72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D23-1310-4AE4-A49C-1DF4651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E4258F-C499-4C37-98CC-B605CDB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B7B405-BA72-464B-BDB0-67198FC1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F061D-C8BB-47AF-A943-8F29911E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95EA7-12E4-4907-87E3-8C6034A0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F84BF-8A7D-4B68-9295-79DCDD1E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67CE4-50C1-41DD-B854-60435FF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73E20-A502-442A-A3F3-7B28FFC2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62CB6-2F6C-408C-BE31-AEF93AD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3F116-FD89-4869-98A5-AE456065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6F0D6-D56A-4EE9-8002-0FF02F1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7EA2-4582-4654-860A-E0F435B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4263D-C093-4982-B77A-A55F098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36925-3BAD-4C2C-8493-19EF3C3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B6AE7-1FC4-4720-8E98-26F6CAB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B1543-4061-436C-8AA1-9371FCC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A27B1-5BDD-4109-81BD-1AC3760A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A87E6-C479-40A9-879B-DA77C0A6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08906-B4D9-4491-A3A8-CD23280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180A-200C-4294-A1C5-B6D44FC9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1183C-5532-40F8-8255-8120950B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25F87-5CC0-4E0F-8FF6-1017B11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9131-B005-465E-92D8-A9D73D1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0C70-D876-4D6C-B14D-D2615198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44FB4-9206-4A88-8312-9FC182B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5387A-A5E2-4650-BF50-A92190C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DD633-52B8-4617-BC7B-3BECBFE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5E21A-112F-4784-A928-9F6045A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20801-02C2-49F2-8F11-9D396E62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361A3-B84B-46FE-B8E7-3AD8413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690281-E017-4DAE-AC3E-509192B7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5E5F73-D8D7-44B8-99A8-5E104738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C49F89-FE35-4456-A980-796163F0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E93-DE9F-4BB2-9083-C8F4BD2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2EE2C2-0CAF-44D5-818D-4A563E68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DC4241-70A0-4CAD-8889-2688DA2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FF4D12-F043-471B-8627-BCDF8538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7C0292-1384-46C0-B29D-A42424F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02F9A2-0708-4FB5-8C90-6D2F80E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C07A4C-5CC8-4BCE-8384-4D49903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AFB88C-D38B-402E-B1B6-A9C50E4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140CD7-FA00-4957-95B8-9A2A433A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9DF48B-8312-4FBE-A1AE-BA4FDCAC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3BA-FB1C-4F76-97AC-A567F8AE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B239-4888-4126-BF74-39526DA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3E0-2BE3-42EC-86FC-56DC4B8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FB2-145D-4D00-86CD-F4AC6AE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5D2-8D23-4108-8E56-76ECC52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BC4-2B96-463B-9B21-5C9BF43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EB62-CA1C-4E87-9ACD-58DE51EB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2E9-20AB-4F08-8C6B-E584DAF4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5861-5E2E-4AB7-BE2C-513CD599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A3F0-0507-4E52-BFB9-A6FE59B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7FA9-CE1F-490C-AEBE-FD04A16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BDEA-41D9-4667-AD16-67A0BD5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FA81-A206-4BB7-A1F2-66813EB9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8CE6-E3C1-493D-A097-BFC93B24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47A-243D-4BA7-A47A-37DD547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FE3D-E978-4825-B59C-025AB05F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3F7D-EAE4-43E1-8A69-CAFBE9E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A6EE-48D6-4710-9CE5-260E1FE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ECF6-55AB-489E-8BD7-BCCF599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5B13-6AB9-4DDB-AFD8-C9ED55B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ACA5-7BBD-4E03-800A-FF280804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2EBD-6917-434C-B470-A3EF5A21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E2CE-32CF-47E9-9E56-2E012386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787B-B06B-4712-A8EA-3E002A8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C93A-87AF-4EE7-9296-A44B9CE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5D7-AD89-42C6-B109-04B75349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9D9B-8736-4CC1-8AD1-CF24E5F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02F3-3F5F-4034-BA10-7272CB2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5970-60F0-40EC-AEDA-44E85488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9D75-F24C-44B2-8726-9487729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D56F-7DF2-4137-B635-15DCE07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E94C-0E5B-4676-9940-90A7B2B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5AB54-19FE-4139-A690-9086B67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0DD4-028D-4633-8757-E865D70A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6323-F975-4519-B401-87D8793C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369E-859B-4ABB-B745-8DC0DAB0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16A-524D-4CF2-98E4-43EFC4F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ADF0-8F43-4868-954D-9E04667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B1D9-8AF0-4F8E-AF99-A41D454F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2FCD-9034-45DC-9C12-6AF089C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2B1F-D1BE-4568-9E1A-4ABF99A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140F-B650-49C8-9199-CB0B6D2F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2107-0179-40CF-AD9A-4AF704B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6C4D8-1F88-453F-A818-91F301C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8019-3FFB-4167-B579-BD3109E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9E90-BD53-471A-BC3E-27E3AD6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0392-E502-4F5D-986C-CECF0E1C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B41-6507-4DE2-B36E-F71100F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BF91-3B4B-4A56-BF83-B1676075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A6A6-C444-424E-BB82-E81E1880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15F9-7776-4340-AC47-FABF75EB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93F6-0F52-441F-B0B3-030F965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22B64-1075-4E9C-932D-F4C77EF2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2AF2C-6B1A-4EC3-B7DC-D776302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8802-3A07-417F-BC6F-4BB01AB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AEFA4-CC10-43B7-A909-224FFE2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0662-9E31-41AF-A29C-9A45920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A620-626B-44D1-A934-273341E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736-2708-48E3-A5D6-2DABD0C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FE30-1B9E-472A-8CD4-051B09E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A452A-DC65-4AA5-90A0-37560081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32A6-98EC-445F-A6B6-18244C86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6BBE-7BF0-413C-98BD-A1520CFE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DAF3B-03E0-4196-B108-73E01F0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DE61-78DC-4A88-83DF-C655851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9F34-1981-4410-A10F-939F64F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A8BD-1C98-4920-8AD2-F38C97A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57C6-CD18-487E-87A7-82629E6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3B43-FE48-49D3-8851-8135A83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8E2-BF47-4E40-8AFF-71CC10F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CF30-E935-40D1-82AB-7EC6ADD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0DDD-C370-493D-9EAA-3443608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1A2E9-C64F-4B2E-B359-0CFA376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2F1B5-D54D-4F62-AEE5-3FCD276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FCD1-C878-4559-8823-66ADEA85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768CE-748F-4AAD-BD8F-0C3FF811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13EB-31A5-497C-A7CD-9673E53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5B77-DC35-4197-B319-443C6981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3D69-7FCF-4D89-8047-AF6FAB31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D32D-4D19-473C-BF6A-E808E351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076-3F8C-4B6B-B222-7FFF3C8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61EA-8D13-4D5F-9E91-446C0DFE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4124-3CB5-4A45-BF5C-6789F74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0A7A-E74F-4E06-A26B-512D9A2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F885-AE56-4F0F-A992-4C2D2BE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D41E8-60AD-4FBE-8D46-62E3270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C1C5-DE7A-4D7A-9C0C-6B43A829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1077-1770-4F6D-915B-CA49611D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231EA-E5E2-4C6D-954F-9E91202D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00576-A5AD-4862-98B6-0BF7043E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6BF1-68CA-44F9-AA9E-C6A6176D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D57-399E-4643-BC5C-D46B0D2730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E02-55DE-445C-8040-7A5DD29419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93D4-B800-4AEE-BB37-8139E6A4C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613-95C1-478F-A0D0-36245532B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6C8-C796-4653-A45B-A9E5BA95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EDA-F337-40D9-9AB7-3796CE132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A77-7E62-4DD8-B4B0-1F37DA733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A8CF-EBC8-4B8E-AF7F-48B05865D3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5677-FAEB-4CB3-BFC1-80BE29BF49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D7C0-98A5-463F-8143-1E3A9791BB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3DE-0F08-4800-B01A-3E64A260A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CEE-E223-4A9E-828E-0261E2AD9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10F0-FB8D-496A-A492-4DA1D33E0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F207-E0C3-4C5D-8AE0-EF4575B83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ISP1vr668YCFYq6FAodjhgMdw&amp;url=http://sonoworld.com/fetus/page.aspx?id=6&amp;ei=lReuVcRwivVSjrGwuAc&amp;bvm=bv.98197061,d.bGQ&amp;psig=AFQjCNFGvaOBc26Y3WHoD5BGKwBJu_ojWQ&amp;ust=143755899505253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3"/>
          <p:cNvSpPr/>
          <p:nvPr/>
        </p:nvSpPr>
        <p:spPr>
          <a:xfrm>
            <a:off x="914400" y="243828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РОМОЗОМСКЕ АБЕРАЦИЈЕ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ормално полиплоидиј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овека налазимо у делу ћелија неких ткива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 плацент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јетр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регенерације где настај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ендомитозом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triploidija"/>
          <p:cNvPicPr/>
          <p:nvPr/>
        </p:nvPicPr>
        <p:blipFill>
          <a:blip r:embed="rId1"/>
          <a:stretch/>
        </p:blipFill>
        <p:spPr>
          <a:xfrm>
            <a:off x="914400" y="990720"/>
            <a:ext cx="7696080" cy="575316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"/>
          <p:cNvSpPr/>
          <p:nvPr/>
        </p:nvSpPr>
        <p:spPr>
          <a:xfrm>
            <a:off x="243828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ТРИПЛОИДИЈА (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=6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5867280" y="6156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69,X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tetraploidija XXYY"/>
          <p:cNvPicPr/>
          <p:nvPr/>
        </p:nvPicPr>
        <p:blipFill>
          <a:blip r:embed="rId1"/>
          <a:stretch/>
        </p:blipFill>
        <p:spPr>
          <a:xfrm>
            <a:off x="762120" y="1179360"/>
            <a:ext cx="7848360" cy="545004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2286000" y="685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ТЕТРАПЛОИДИЈ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(4n=9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172200" y="6014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92,XXY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704880"/>
            <a:ext cx="67820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еуплоид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је промена у броју појединачних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да буд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иподиплоидиј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појединачни хромозом недостаје у диплоидном хромозомском се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ипердиплоид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се појединачни хромозом јави у вишку у диплоидном хромозомском се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зи се како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ес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о и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рсте анеуплоиди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 телесним ћелијам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овека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0492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озомија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45, Х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изомија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2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- недостаје цео хромозомск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пар (није описана код људ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зомија 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+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47, Х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+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зомија (2n+2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. 48, XXX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јна тризомија (2n+1+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. 48, XXY(+2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е анеуплоидије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у полним ћелија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овека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2742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ја  (n-1 = 2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зомија  (n+1 = 2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зомија  (n+2 = 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тразомија  (n+3 = 2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неуплоидије настају услед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266688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раздвајања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у анафази митозе или меј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заостај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у кретању у анафази ћелијске де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3048120" y="1143000"/>
            <a:ext cx="1066680" cy="1066680"/>
            <a:chOff x="3048120" y="1143000"/>
            <a:chExt cx="1066680" cy="1066680"/>
          </a:xfrm>
        </p:grpSpPr>
        <p:sp>
          <p:nvSpPr>
            <p:cNvPr id="743" name="Oval 3"/>
            <p:cNvSpPr/>
            <p:nvPr/>
          </p:nvSpPr>
          <p:spPr>
            <a:xfrm>
              <a:off x="30481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4"/>
            <p:cNvGrpSpPr/>
            <p:nvPr/>
          </p:nvGrpSpPr>
          <p:grpSpPr>
            <a:xfrm>
              <a:off x="3276360" y="1295280"/>
              <a:ext cx="304560" cy="685440"/>
              <a:chOff x="3276360" y="1295280"/>
              <a:chExt cx="304560" cy="685440"/>
            </a:xfrm>
          </p:grpSpPr>
          <p:sp>
            <p:nvSpPr>
              <p:cNvPr id="745" name="Freeform 5"/>
              <p:cNvSpPr/>
              <p:nvPr/>
            </p:nvSpPr>
            <p:spPr>
              <a:xfrm>
                <a:off x="32763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6"/>
              <p:cNvSpPr/>
              <p:nvPr/>
            </p:nvSpPr>
            <p:spPr>
              <a:xfrm>
                <a:off x="33235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"/>
              <p:cNvSpPr/>
              <p:nvPr/>
            </p:nvSpPr>
            <p:spPr>
              <a:xfrm>
                <a:off x="34092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8"/>
              <p:cNvSpPr/>
              <p:nvPr/>
            </p:nvSpPr>
            <p:spPr>
              <a:xfrm>
                <a:off x="34135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9"/>
            <p:cNvGrpSpPr/>
            <p:nvPr/>
          </p:nvGrpSpPr>
          <p:grpSpPr>
            <a:xfrm>
              <a:off x="3581280" y="1295280"/>
              <a:ext cx="304560" cy="685440"/>
              <a:chOff x="3581280" y="1295280"/>
              <a:chExt cx="304560" cy="685440"/>
            </a:xfrm>
          </p:grpSpPr>
          <p:sp>
            <p:nvSpPr>
              <p:cNvPr id="750" name="Freeform 10"/>
              <p:cNvSpPr/>
              <p:nvPr/>
            </p:nvSpPr>
            <p:spPr>
              <a:xfrm>
                <a:off x="35812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1"/>
              <p:cNvSpPr/>
              <p:nvPr/>
            </p:nvSpPr>
            <p:spPr>
              <a:xfrm>
                <a:off x="36284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37141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37184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755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757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762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Oval 26"/>
          <p:cNvSpPr/>
          <p:nvPr/>
        </p:nvSpPr>
        <p:spPr>
          <a:xfrm>
            <a:off x="43434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7"/>
          <p:cNvSpPr/>
          <p:nvPr/>
        </p:nvSpPr>
        <p:spPr>
          <a:xfrm>
            <a:off x="383544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8"/>
          <p:cNvSpPr/>
          <p:nvPr/>
        </p:nvSpPr>
        <p:spPr>
          <a:xfrm>
            <a:off x="53341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30"/>
          <p:cNvSpPr/>
          <p:nvPr/>
        </p:nvSpPr>
        <p:spPr>
          <a:xfrm flipH="1">
            <a:off x="15235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1"/>
          <p:cNvSpPr/>
          <p:nvPr/>
        </p:nvSpPr>
        <p:spPr>
          <a:xfrm flipH="1">
            <a:off x="41911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2"/>
          <p:cNvSpPr/>
          <p:nvPr/>
        </p:nvSpPr>
        <p:spPr>
          <a:xfrm>
            <a:off x="51991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3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4"/>
          <p:cNvSpPr/>
          <p:nvPr/>
        </p:nvSpPr>
        <p:spPr>
          <a:xfrm>
            <a:off x="24559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5"/>
          <p:cNvSpPr/>
          <p:nvPr/>
        </p:nvSpPr>
        <p:spPr>
          <a:xfrm>
            <a:off x="2666880" y="23623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6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7"/>
          <p:cNvSpPr/>
          <p:nvPr/>
        </p:nvSpPr>
        <p:spPr>
          <a:xfrm>
            <a:off x="5508720" y="1413000"/>
            <a:ext cx="2016000" cy="142380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943600" y="1916280"/>
            <a:ext cx="1066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2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971640" y="5589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50% дизомични гамети  </a:t>
            </a:r>
            <a:r>
              <a:rPr b="1" lang="sr-CS" sz="1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C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4191120" y="5562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50% нулизомични гамети </a:t>
            </a:r>
            <a:r>
              <a:rPr b="1" lang="sr-CS" sz="1600" spc="-1" strike="noStrike">
                <a:solidFill>
                  <a:srgbClr val="00b050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41"/>
          <p:cNvGrpSpPr/>
          <p:nvPr/>
        </p:nvGrpSpPr>
        <p:grpSpPr>
          <a:xfrm>
            <a:off x="2195640" y="4149720"/>
            <a:ext cx="1066680" cy="1066680"/>
            <a:chOff x="2195640" y="4149720"/>
            <a:chExt cx="1066680" cy="1066680"/>
          </a:xfrm>
        </p:grpSpPr>
        <p:sp>
          <p:nvSpPr>
            <p:cNvPr id="782" name="Oval 42"/>
            <p:cNvSpPr/>
            <p:nvPr/>
          </p:nvSpPr>
          <p:spPr>
            <a:xfrm>
              <a:off x="219564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43"/>
            <p:cNvGrpSpPr/>
            <p:nvPr/>
          </p:nvGrpSpPr>
          <p:grpSpPr>
            <a:xfrm>
              <a:off x="2423880" y="4302000"/>
              <a:ext cx="304560" cy="685440"/>
              <a:chOff x="2423880" y="4302000"/>
              <a:chExt cx="304560" cy="685440"/>
            </a:xfrm>
          </p:grpSpPr>
          <p:sp>
            <p:nvSpPr>
              <p:cNvPr id="784" name="Freeform 44"/>
              <p:cNvSpPr/>
              <p:nvPr/>
            </p:nvSpPr>
            <p:spPr>
              <a:xfrm>
                <a:off x="242388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"/>
              <p:cNvSpPr/>
              <p:nvPr/>
            </p:nvSpPr>
            <p:spPr>
              <a:xfrm>
                <a:off x="247104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6"/>
              <p:cNvSpPr/>
              <p:nvPr/>
            </p:nvSpPr>
            <p:spPr>
              <a:xfrm>
                <a:off x="2556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7"/>
              <p:cNvSpPr/>
              <p:nvPr/>
            </p:nvSpPr>
            <p:spPr>
              <a:xfrm>
                <a:off x="2561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8"/>
            <p:cNvGrpSpPr/>
            <p:nvPr/>
          </p:nvGrpSpPr>
          <p:grpSpPr>
            <a:xfrm>
              <a:off x="2728800" y="4302000"/>
              <a:ext cx="304560" cy="685440"/>
              <a:chOff x="2728800" y="4302000"/>
              <a:chExt cx="304560" cy="685440"/>
            </a:xfrm>
          </p:grpSpPr>
          <p:sp>
            <p:nvSpPr>
              <p:cNvPr id="789" name="Freeform 49"/>
              <p:cNvSpPr/>
              <p:nvPr/>
            </p:nvSpPr>
            <p:spPr>
              <a:xfrm>
                <a:off x="272880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0"/>
              <p:cNvSpPr/>
              <p:nvPr/>
            </p:nvSpPr>
            <p:spPr>
              <a:xfrm>
                <a:off x="277596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1"/>
              <p:cNvSpPr/>
              <p:nvPr/>
            </p:nvSpPr>
            <p:spPr>
              <a:xfrm>
                <a:off x="2861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2"/>
              <p:cNvSpPr/>
              <p:nvPr/>
            </p:nvSpPr>
            <p:spPr>
              <a:xfrm>
                <a:off x="2865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53"/>
          <p:cNvGrpSpPr/>
          <p:nvPr/>
        </p:nvGrpSpPr>
        <p:grpSpPr>
          <a:xfrm>
            <a:off x="826920" y="4149720"/>
            <a:ext cx="1067040" cy="1066680"/>
            <a:chOff x="826920" y="4149720"/>
            <a:chExt cx="1067040" cy="1066680"/>
          </a:xfrm>
        </p:grpSpPr>
        <p:sp>
          <p:nvSpPr>
            <p:cNvPr id="794" name="Oval 54"/>
            <p:cNvSpPr/>
            <p:nvPr/>
          </p:nvSpPr>
          <p:spPr>
            <a:xfrm>
              <a:off x="826920" y="4149720"/>
              <a:ext cx="10670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55"/>
            <p:cNvGrpSpPr/>
            <p:nvPr/>
          </p:nvGrpSpPr>
          <p:grpSpPr>
            <a:xfrm>
              <a:off x="1055520" y="4302000"/>
              <a:ext cx="304920" cy="685440"/>
              <a:chOff x="1055520" y="4302000"/>
              <a:chExt cx="304920" cy="685440"/>
            </a:xfrm>
          </p:grpSpPr>
          <p:sp>
            <p:nvSpPr>
              <p:cNvPr id="796" name="Freeform 56"/>
              <p:cNvSpPr/>
              <p:nvPr/>
            </p:nvSpPr>
            <p:spPr>
              <a:xfrm>
                <a:off x="105552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7"/>
              <p:cNvSpPr/>
              <p:nvPr/>
            </p:nvSpPr>
            <p:spPr>
              <a:xfrm>
                <a:off x="110268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8"/>
              <p:cNvSpPr/>
              <p:nvPr/>
            </p:nvSpPr>
            <p:spPr>
              <a:xfrm>
                <a:off x="1188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9"/>
              <p:cNvSpPr/>
              <p:nvPr/>
            </p:nvSpPr>
            <p:spPr>
              <a:xfrm>
                <a:off x="1193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60"/>
            <p:cNvGrpSpPr/>
            <p:nvPr/>
          </p:nvGrpSpPr>
          <p:grpSpPr>
            <a:xfrm>
              <a:off x="1360440" y="4302000"/>
              <a:ext cx="304920" cy="685440"/>
              <a:chOff x="1360440" y="4302000"/>
              <a:chExt cx="304920" cy="685440"/>
            </a:xfrm>
          </p:grpSpPr>
          <p:sp>
            <p:nvSpPr>
              <p:cNvPr id="801" name="Freeform 61"/>
              <p:cNvSpPr/>
              <p:nvPr/>
            </p:nvSpPr>
            <p:spPr>
              <a:xfrm>
                <a:off x="13604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2"/>
              <p:cNvSpPr/>
              <p:nvPr/>
            </p:nvSpPr>
            <p:spPr>
              <a:xfrm>
                <a:off x="14076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3"/>
              <p:cNvSpPr/>
              <p:nvPr/>
            </p:nvSpPr>
            <p:spPr>
              <a:xfrm>
                <a:off x="1493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4"/>
              <p:cNvSpPr/>
              <p:nvPr/>
            </p:nvSpPr>
            <p:spPr>
              <a:xfrm>
                <a:off x="1497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5" name="Rectangle 65"/>
          <p:cNvSpPr/>
          <p:nvPr/>
        </p:nvSpPr>
        <p:spPr>
          <a:xfrm>
            <a:off x="304920" y="152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првој мејотичкој део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807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809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814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820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2"/>
          <p:cNvSpPr/>
          <p:nvPr/>
        </p:nvSpPr>
        <p:spPr>
          <a:xfrm>
            <a:off x="0" y="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другој мејотичкој деоби у свим ћеркама ћелија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5"/>
          <p:cNvSpPr/>
          <p:nvPr/>
        </p:nvSpPr>
        <p:spPr>
          <a:xfrm>
            <a:off x="685800" y="5446800"/>
            <a:ext cx="2043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дизомични гамети  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841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42"/>
          <p:cNvGrpSpPr/>
          <p:nvPr/>
        </p:nvGrpSpPr>
        <p:grpSpPr>
          <a:xfrm>
            <a:off x="1332000" y="4221000"/>
            <a:ext cx="304560" cy="685440"/>
            <a:chOff x="1332000" y="4221000"/>
            <a:chExt cx="304560" cy="685440"/>
          </a:xfrm>
        </p:grpSpPr>
        <p:sp>
          <p:nvSpPr>
            <p:cNvPr id="846" name="Freeform 43"/>
            <p:cNvSpPr/>
            <p:nvPr/>
          </p:nvSpPr>
          <p:spPr>
            <a:xfrm>
              <a:off x="1332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"/>
            <p:cNvSpPr/>
            <p:nvPr/>
          </p:nvSpPr>
          <p:spPr>
            <a:xfrm>
              <a:off x="1379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146484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146916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851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856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861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5" name="Straight Arrow Connector 64"/>
          <p:cNvCxnSpPr/>
          <p:nvPr/>
        </p:nvCxnSpPr>
        <p:spPr>
          <a:xfrm flipV="1">
            <a:off x="1218960" y="5180760"/>
            <a:ext cx="10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6" name="Text Box 40"/>
          <p:cNvSpPr/>
          <p:nvPr/>
        </p:nvSpPr>
        <p:spPr>
          <a:xfrm>
            <a:off x="3886200" y="5562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нулизомични гамети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Straight Arrow Connector 69"/>
          <p:cNvCxnSpPr/>
          <p:nvPr/>
        </p:nvCxnSpPr>
        <p:spPr>
          <a:xfrm flipV="1">
            <a:off x="5409720" y="5257080"/>
            <a:ext cx="1080" cy="229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8" name="Straight Arrow Connector 71"/>
          <p:cNvCxnSpPr/>
          <p:nvPr/>
        </p:nvCxnSpPr>
        <p:spPr>
          <a:xfrm flipH="1" flipV="1">
            <a:off x="2971080" y="5105160"/>
            <a:ext cx="1067400" cy="457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9" name="Straight Arrow Connector 66"/>
          <p:cNvCxnSpPr/>
          <p:nvPr/>
        </p:nvCxnSpPr>
        <p:spPr>
          <a:xfrm flipV="1">
            <a:off x="2514240" y="5105160"/>
            <a:ext cx="1143720" cy="4579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870" name="Line 31"/>
          <p:cNvSpPr/>
          <p:nvPr/>
        </p:nvSpPr>
        <p:spPr>
          <a:xfrm>
            <a:off x="914400" y="37339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872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874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879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885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2"/>
          <p:cNvSpPr/>
          <p:nvPr/>
        </p:nvSpPr>
        <p:spPr>
          <a:xfrm>
            <a:off x="0" y="65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другој мејотичкој деоби у једној ћерки ћелиј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5"/>
          <p:cNvSpPr/>
          <p:nvPr/>
        </p:nvSpPr>
        <p:spPr>
          <a:xfrm>
            <a:off x="762120" y="5638680"/>
            <a:ext cx="2043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нормални гамети 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=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906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42"/>
          <p:cNvGrpSpPr/>
          <p:nvPr/>
        </p:nvGrpSpPr>
        <p:grpSpPr>
          <a:xfrm>
            <a:off x="2438280" y="4343400"/>
            <a:ext cx="304920" cy="685440"/>
            <a:chOff x="2438280" y="4343400"/>
            <a:chExt cx="304920" cy="685440"/>
          </a:xfrm>
        </p:grpSpPr>
        <p:sp>
          <p:nvSpPr>
            <p:cNvPr id="911" name="Freeform 43"/>
            <p:cNvSpPr/>
            <p:nvPr/>
          </p:nvSpPr>
          <p:spPr>
            <a:xfrm>
              <a:off x="2438280" y="43434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2485440" y="46616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2571480" y="43678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6"/>
            <p:cNvSpPr/>
            <p:nvPr/>
          </p:nvSpPr>
          <p:spPr>
            <a:xfrm>
              <a:off x="2575800" y="46310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916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921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926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0" name="Straight Arrow Connector 64"/>
          <p:cNvCxnSpPr/>
          <p:nvPr/>
        </p:nvCxnSpPr>
        <p:spPr>
          <a:xfrm flipV="1">
            <a:off x="1142640" y="5180760"/>
            <a:ext cx="10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1" name="Text Box 40"/>
          <p:cNvSpPr/>
          <p:nvPr/>
        </p:nvSpPr>
        <p:spPr>
          <a:xfrm>
            <a:off x="5410080" y="5638680"/>
            <a:ext cx="2016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нулизомич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гамети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Straight Arrow Connector 69"/>
          <p:cNvCxnSpPr/>
          <p:nvPr/>
        </p:nvCxnSpPr>
        <p:spPr>
          <a:xfrm flipH="1" flipV="1">
            <a:off x="5714280" y="5180760"/>
            <a:ext cx="305640" cy="3056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33" name="Straight Arrow Connector 66"/>
          <p:cNvCxnSpPr/>
          <p:nvPr/>
        </p:nvCxnSpPr>
        <p:spPr>
          <a:xfrm flipV="1">
            <a:off x="2361960" y="5180760"/>
            <a:ext cx="766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4" name="Text Box 40"/>
          <p:cNvSpPr/>
          <p:nvPr/>
        </p:nvSpPr>
        <p:spPr>
          <a:xfrm>
            <a:off x="3200400" y="563868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дизомични гамети </a:t>
            </a:r>
            <a:r>
              <a:rPr b="1" lang="sr-CS" sz="1600" spc="-1" strike="noStrike">
                <a:solidFill>
                  <a:srgbClr val="7030a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traight Arrow Connector 73"/>
          <p:cNvCxnSpPr/>
          <p:nvPr/>
        </p:nvCxnSpPr>
        <p:spPr>
          <a:xfrm flipV="1">
            <a:off x="4114440" y="5257080"/>
            <a:ext cx="1080" cy="305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36" name="AutoShape 33"/>
          <p:cNvSpPr/>
          <p:nvPr/>
        </p:nvSpPr>
        <p:spPr>
          <a:xfrm>
            <a:off x="0" y="2794320"/>
            <a:ext cx="1600200" cy="147672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Без грешк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2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мери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ч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берације-промене у броју хромоз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уктурн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бераци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п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мене у структури хромоз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3059280" y="1125360"/>
            <a:ext cx="1066680" cy="1066680"/>
            <a:chOff x="3059280" y="1125360"/>
            <a:chExt cx="1066680" cy="1066680"/>
          </a:xfrm>
        </p:grpSpPr>
        <p:sp>
          <p:nvSpPr>
            <p:cNvPr id="938" name="Oval 3"/>
            <p:cNvSpPr/>
            <p:nvPr/>
          </p:nvSpPr>
          <p:spPr>
            <a:xfrm>
              <a:off x="3059280" y="112536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3287520" y="1277640"/>
              <a:ext cx="304560" cy="685440"/>
              <a:chOff x="3287520" y="1277640"/>
              <a:chExt cx="304560" cy="685440"/>
            </a:xfrm>
          </p:grpSpPr>
          <p:sp>
            <p:nvSpPr>
              <p:cNvPr id="940" name="Freeform 5"/>
              <p:cNvSpPr/>
              <p:nvPr/>
            </p:nvSpPr>
            <p:spPr>
              <a:xfrm>
                <a:off x="328752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"/>
              <p:cNvSpPr/>
              <p:nvPr/>
            </p:nvSpPr>
            <p:spPr>
              <a:xfrm>
                <a:off x="333468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"/>
              <p:cNvSpPr/>
              <p:nvPr/>
            </p:nvSpPr>
            <p:spPr>
              <a:xfrm>
                <a:off x="342036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342468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Group 9"/>
            <p:cNvGrpSpPr/>
            <p:nvPr/>
          </p:nvGrpSpPr>
          <p:grpSpPr>
            <a:xfrm>
              <a:off x="3592440" y="1277640"/>
              <a:ext cx="304560" cy="685440"/>
              <a:chOff x="3592440" y="1277640"/>
              <a:chExt cx="304560" cy="685440"/>
            </a:xfrm>
          </p:grpSpPr>
          <p:sp>
            <p:nvSpPr>
              <p:cNvPr id="945" name="Freeform 10"/>
              <p:cNvSpPr/>
              <p:nvPr/>
            </p:nvSpPr>
            <p:spPr>
              <a:xfrm>
                <a:off x="359244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363960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372528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372960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950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952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957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1" name="Oval 26"/>
          <p:cNvSpPr/>
          <p:nvPr/>
        </p:nvSpPr>
        <p:spPr>
          <a:xfrm>
            <a:off x="4572000" y="256536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500720" y="422100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8"/>
          <p:cNvSpPr/>
          <p:nvPr/>
        </p:nvSpPr>
        <p:spPr>
          <a:xfrm>
            <a:off x="5940360" y="4221000"/>
            <a:ext cx="106704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0"/>
          <p:cNvSpPr/>
          <p:nvPr/>
        </p:nvSpPr>
        <p:spPr>
          <a:xfrm flipH="1">
            <a:off x="1186920" y="3573360"/>
            <a:ext cx="38124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1"/>
          <p:cNvSpPr/>
          <p:nvPr/>
        </p:nvSpPr>
        <p:spPr>
          <a:xfrm>
            <a:off x="5592240" y="36676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2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3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34"/>
          <p:cNvSpPr/>
          <p:nvPr/>
        </p:nvSpPr>
        <p:spPr>
          <a:xfrm>
            <a:off x="4657680" y="1211400"/>
            <a:ext cx="2376360" cy="125244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5"/>
          <p:cNvSpPr/>
          <p:nvPr/>
        </p:nvSpPr>
        <p:spPr>
          <a:xfrm>
            <a:off x="5076720" y="162864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6"/>
          <p:cNvSpPr/>
          <p:nvPr/>
        </p:nvSpPr>
        <p:spPr>
          <a:xfrm>
            <a:off x="304920" y="5791320"/>
            <a:ext cx="2361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тетразомични гамет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 + 3 = 2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7"/>
          <p:cNvSpPr/>
          <p:nvPr/>
        </p:nvSpPr>
        <p:spPr>
          <a:xfrm>
            <a:off x="4038480" y="5638680"/>
            <a:ext cx="2016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75% нулизомични гамет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38"/>
          <p:cNvGrpSpPr/>
          <p:nvPr/>
        </p:nvGrpSpPr>
        <p:grpSpPr>
          <a:xfrm>
            <a:off x="1116000" y="4149720"/>
            <a:ext cx="1223640" cy="1066680"/>
            <a:chOff x="1116000" y="4149720"/>
            <a:chExt cx="1223640" cy="1066680"/>
          </a:xfrm>
        </p:grpSpPr>
        <p:sp>
          <p:nvSpPr>
            <p:cNvPr id="974" name="Oval 39"/>
            <p:cNvSpPr/>
            <p:nvPr/>
          </p:nvSpPr>
          <p:spPr>
            <a:xfrm>
              <a:off x="1116000" y="4149720"/>
              <a:ext cx="12236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40"/>
            <p:cNvGrpSpPr/>
            <p:nvPr/>
          </p:nvGrpSpPr>
          <p:grpSpPr>
            <a:xfrm>
              <a:off x="1378080" y="4302000"/>
              <a:ext cx="349200" cy="685440"/>
              <a:chOff x="1378080" y="4302000"/>
              <a:chExt cx="349200" cy="685440"/>
            </a:xfrm>
          </p:grpSpPr>
          <p:sp>
            <p:nvSpPr>
              <p:cNvPr id="976" name="Freeform 41"/>
              <p:cNvSpPr/>
              <p:nvPr/>
            </p:nvSpPr>
            <p:spPr>
              <a:xfrm>
                <a:off x="137808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43208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53072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53540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45"/>
            <p:cNvGrpSpPr/>
            <p:nvPr/>
          </p:nvGrpSpPr>
          <p:grpSpPr>
            <a:xfrm>
              <a:off x="1727640" y="4302000"/>
              <a:ext cx="349200" cy="685440"/>
              <a:chOff x="1727640" y="4302000"/>
              <a:chExt cx="349200" cy="685440"/>
            </a:xfrm>
          </p:grpSpPr>
          <p:sp>
            <p:nvSpPr>
              <p:cNvPr id="981" name="Freeform 46"/>
              <p:cNvSpPr/>
              <p:nvPr/>
            </p:nvSpPr>
            <p:spPr>
              <a:xfrm>
                <a:off x="172764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78164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88028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8496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Rectangle 50"/>
          <p:cNvSpPr/>
          <p:nvPr/>
        </p:nvSpPr>
        <p:spPr>
          <a:xfrm>
            <a:off x="152280" y="6516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 првој и у другој мејотичкој део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1"/>
          <p:cNvSpPr/>
          <p:nvPr/>
        </p:nvSpPr>
        <p:spPr>
          <a:xfrm>
            <a:off x="6156360" y="2637000"/>
            <a:ext cx="2666880" cy="15411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2"/>
          <p:cNvSpPr/>
          <p:nvPr/>
        </p:nvSpPr>
        <p:spPr>
          <a:xfrm>
            <a:off x="6877080" y="29973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3"/>
          <p:cNvSpPr/>
          <p:nvPr/>
        </p:nvSpPr>
        <p:spPr>
          <a:xfrm>
            <a:off x="2861640" y="3556440"/>
            <a:ext cx="344160" cy="41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54"/>
          <p:cNvSpPr/>
          <p:nvPr/>
        </p:nvSpPr>
        <p:spPr>
          <a:xfrm>
            <a:off x="2987640" y="41497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55"/>
          <p:cNvSpPr/>
          <p:nvPr/>
        </p:nvSpPr>
        <p:spPr>
          <a:xfrm>
            <a:off x="0" y="3933720"/>
            <a:ext cx="2700360" cy="14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56"/>
          <p:cNvGrpSpPr/>
          <p:nvPr/>
        </p:nvGrpSpPr>
        <p:grpSpPr>
          <a:xfrm>
            <a:off x="324000" y="4149720"/>
            <a:ext cx="1066680" cy="1066680"/>
            <a:chOff x="324000" y="4149720"/>
            <a:chExt cx="1066680" cy="1066680"/>
          </a:xfrm>
        </p:grpSpPr>
        <p:sp>
          <p:nvSpPr>
            <p:cNvPr id="992" name="Oval 57"/>
            <p:cNvSpPr/>
            <p:nvPr/>
          </p:nvSpPr>
          <p:spPr>
            <a:xfrm>
              <a:off x="324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58"/>
            <p:cNvGrpSpPr/>
            <p:nvPr/>
          </p:nvGrpSpPr>
          <p:grpSpPr>
            <a:xfrm>
              <a:off x="552240" y="4302000"/>
              <a:ext cx="304560" cy="685440"/>
              <a:chOff x="552240" y="4302000"/>
              <a:chExt cx="304560" cy="685440"/>
            </a:xfrm>
          </p:grpSpPr>
          <p:sp>
            <p:nvSpPr>
              <p:cNvPr id="994" name="Freeform 59"/>
              <p:cNvSpPr/>
              <p:nvPr/>
            </p:nvSpPr>
            <p:spPr>
              <a:xfrm>
                <a:off x="552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599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685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689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63"/>
            <p:cNvGrpSpPr/>
            <p:nvPr/>
          </p:nvGrpSpPr>
          <p:grpSpPr>
            <a:xfrm>
              <a:off x="857160" y="4302000"/>
              <a:ext cx="304560" cy="685440"/>
              <a:chOff x="857160" y="4302000"/>
              <a:chExt cx="304560" cy="685440"/>
            </a:xfrm>
          </p:grpSpPr>
          <p:sp>
            <p:nvSpPr>
              <p:cNvPr id="999" name="Freeform 64"/>
              <p:cNvSpPr/>
              <p:nvPr/>
            </p:nvSpPr>
            <p:spPr>
              <a:xfrm>
                <a:off x="857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904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990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994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Line 68"/>
          <p:cNvSpPr/>
          <p:nvPr/>
        </p:nvSpPr>
        <p:spPr>
          <a:xfrm flipH="1">
            <a:off x="4788000" y="371628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69"/>
          <p:cNvGrpSpPr/>
          <p:nvPr/>
        </p:nvGrpSpPr>
        <p:grpSpPr>
          <a:xfrm>
            <a:off x="1116000" y="4149720"/>
            <a:ext cx="1066680" cy="1066680"/>
            <a:chOff x="1116000" y="4149720"/>
            <a:chExt cx="1066680" cy="1066680"/>
          </a:xfrm>
        </p:grpSpPr>
        <p:sp>
          <p:nvSpPr>
            <p:cNvPr id="1005" name="Oval 70"/>
            <p:cNvSpPr/>
            <p:nvPr/>
          </p:nvSpPr>
          <p:spPr>
            <a:xfrm>
              <a:off x="1116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71"/>
            <p:cNvGrpSpPr/>
            <p:nvPr/>
          </p:nvGrpSpPr>
          <p:grpSpPr>
            <a:xfrm>
              <a:off x="1344240" y="4302000"/>
              <a:ext cx="304560" cy="685440"/>
              <a:chOff x="1344240" y="4302000"/>
              <a:chExt cx="304560" cy="685440"/>
            </a:xfrm>
          </p:grpSpPr>
          <p:sp>
            <p:nvSpPr>
              <p:cNvPr id="1007" name="Freeform 72"/>
              <p:cNvSpPr/>
              <p:nvPr/>
            </p:nvSpPr>
            <p:spPr>
              <a:xfrm>
                <a:off x="1344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1391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1477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1481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6"/>
            <p:cNvGrpSpPr/>
            <p:nvPr/>
          </p:nvGrpSpPr>
          <p:grpSpPr>
            <a:xfrm>
              <a:off x="1649160" y="4302000"/>
              <a:ext cx="304560" cy="685440"/>
              <a:chOff x="1649160" y="4302000"/>
              <a:chExt cx="304560" cy="685440"/>
            </a:xfrm>
          </p:grpSpPr>
          <p:sp>
            <p:nvSpPr>
              <p:cNvPr id="1012" name="Freeform 77"/>
              <p:cNvSpPr/>
              <p:nvPr/>
            </p:nvSpPr>
            <p:spPr>
              <a:xfrm>
                <a:off x="1649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696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782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786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16" name="Straight Arrow Connector 81"/>
          <p:cNvCxnSpPr/>
          <p:nvPr/>
        </p:nvCxnSpPr>
        <p:spPr>
          <a:xfrm flipH="1" flipV="1">
            <a:off x="3733560" y="5180760"/>
            <a:ext cx="457920" cy="3819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7" name="Straight Arrow Connector 85"/>
          <p:cNvCxnSpPr/>
          <p:nvPr/>
        </p:nvCxnSpPr>
        <p:spPr>
          <a:xfrm flipV="1">
            <a:off x="5791320" y="5257080"/>
            <a:ext cx="381600" cy="3056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8" name="Straight Arrow Connector 89"/>
          <p:cNvCxnSpPr/>
          <p:nvPr/>
        </p:nvCxnSpPr>
        <p:spPr>
          <a:xfrm flipH="1" flipV="1">
            <a:off x="5028480" y="5257440"/>
            <a:ext cx="13320" cy="351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9" name="Straight Arrow Connector 94"/>
          <p:cNvCxnSpPr/>
          <p:nvPr/>
        </p:nvCxnSpPr>
        <p:spPr>
          <a:xfrm flipV="1">
            <a:off x="1371240" y="5409360"/>
            <a:ext cx="108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5684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раздваја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услед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синапси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есинапс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омологих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авилности у функционисањ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еобног врет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ке у величини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етерохроматинск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ги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струких дугачких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атели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0520" y="68544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синапси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омологи хромозо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инапсирају и НЕ формирају хијазме, док се 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синапсису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ијазме у пару хомологих хромозома раздвајају пре времена. У оба случаја хромозом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ишу као унивален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а у анафази од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једно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један пол ћел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 поремећене полимеризације и организације микротубула деобног врет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е хетерохроматинског регио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очито се дешава  код хромозома са великим регионима хетерохромат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1, 9, 1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 дугачких двоструких сателита н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крацима акроцентричних хромозо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и хромозоми се посредством сателита налазе у асоцијациј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може да буде:</a:t>
            </a:r>
            <a:r>
              <a:rPr b="0" lang="sr-Latn-CS" sz="32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28240" y="1980720"/>
            <a:ext cx="853452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марно нераздвај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хромозома у првој или другој мејотичкој деоб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екундарно нераздвај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 особа са аберантним кариотип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7,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Y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7,XXX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 тризомичне и у мејози формирају аберантне гаме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зомичне, тризомичне или нулизомич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остзиготно нераздваја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раздвајање хромозома у анафази митозе, када настају тризомичне и монозомичне телесне ћелиј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зроци нераздвајања хромозома могу да буд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тич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рединс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Генетич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зроц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утоимунске болести, старост мајке, док СТАРОСТ ОЦА НЕ УТИЧ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антне ћелијске ли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изо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XY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редински узроц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зрачења, хемијски агенси, вируси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иксоплоидија-мозаициза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 је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јава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две или више линија ћелија у једном организм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. 4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/4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услед грешке у митози у постзиготном стадију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о нераздвајањем хроматида, било заостајањем  хромозома у анафаз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после ембрионалног разви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о последица поремећене митозе у току процеса старења или у неоплазма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су природни мозаици, у различитим телесним ћелијама је инактивисан различит Х хромозом (Барово тел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заицизам се дијагностикује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робластима к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линија са монозомијом аутозома завршава летал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Химериза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ткивне химере настају спајањем два ембриона током ране ембриогенез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ематски приказ мозаицизма када су присутне две лозе ћелија,  кариотип 46,ХХ/45,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9" name="Picture 4" descr="http://services.dnadirect.com/img/content/common/turnerMosaic.gif"/>
          <p:cNvPicPr/>
          <p:nvPr/>
        </p:nvPicPr>
        <p:blipFill>
          <a:blip r:embed="rId1"/>
          <a:srcRect l="0" t="0" r="0" b="2553"/>
          <a:stretch/>
        </p:blipFill>
        <p:spPr>
          <a:xfrm>
            <a:off x="1600200" y="2103480"/>
            <a:ext cx="5108400" cy="475452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5"/>
          <p:cNvSpPr/>
          <p:nvPr/>
        </p:nvSpPr>
        <p:spPr>
          <a:xfrm>
            <a:off x="1828800" y="6324480"/>
            <a:ext cx="27432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Ћелије којима недостаје један Х, кариоти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,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1447920" y="3962520"/>
            <a:ext cx="2743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ормалне ћелије, кариотип 46,Х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5257800" y="6400800"/>
            <a:ext cx="2666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и мозаициза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ам настанка постзиготног мозаицизма (пр. 47,ХYY/45,XO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1447920" y="3962520"/>
            <a:ext cx="2743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irc_mi" descr="http://sonoworld.com/images/FetusItemImages/article-images/aneuploidy/45_x_47_xyy_files/image8.jpg">
            <a:hlinkClick r:id="rId1"/>
          </p:cNvPr>
          <p:cNvPicPr/>
          <p:nvPr/>
        </p:nvPicPr>
        <p:blipFill>
          <a:blip r:embed="rId2"/>
          <a:srcRect l="0" t="0" r="0" b="6195"/>
          <a:stretch/>
        </p:blipFill>
        <p:spPr>
          <a:xfrm>
            <a:off x="1219320" y="25909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Title 1" descr=""/>
          <p:cNvPicPr/>
          <p:nvPr/>
        </p:nvPicPr>
        <p:blipFill>
          <a:blip r:embed="rId1"/>
          <a:stretch/>
        </p:blipFill>
        <p:spPr>
          <a:xfrm>
            <a:off x="334800" y="1365120"/>
            <a:ext cx="84744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2" descr=""/>
          <p:cNvPicPr/>
          <p:nvPr/>
        </p:nvPicPr>
        <p:blipFill>
          <a:blip r:embed="rId1"/>
          <a:stretch/>
        </p:blipFill>
        <p:spPr>
          <a:xfrm>
            <a:off x="146160" y="603360"/>
            <a:ext cx="8242200" cy="11649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151920" y="228564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олиплоидије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у броју комплетних хромозомских гарни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струко умножавањ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оја 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n, 4n, 5n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Анеуплоидије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у броју појединачних хромозома, било да се ради о њиховом мањку или виш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7864560" cy="9334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854840" cy="3124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иниција термин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ло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) - налази се у телесним ћелија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пло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ловина броја хромозома који се налазе у телесним ћелијама, а карактеристичан је за полне ћелије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опло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и број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ПЛОИДИЈ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5228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човека су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исане триплоидиј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плоидиј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Триплоидија 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(3n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=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69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хромозома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настати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 поремећаја у анафази меј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иплоидни гамети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(2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мест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n)</a:t>
            </a:r>
            <a:r>
              <a:rPr b="1" i="1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i="1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лођењем диплоидног гамета хаплоидним гаметом  настаје триплоидан зиг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испермиј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ђењем јајне ћелије са два сперматоз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време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n 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Тетраплоидија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(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4n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=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92 </a:t>
            </a:r>
            <a:r>
              <a:rPr b="1" lang="sr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хромозома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т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остзиготн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упресијом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обе зиго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у хромозоми удвојени, а изостаје цитокинез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ндомитоз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5dfd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ођењем јајне ћелије истовремено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рматоз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 + n + n + n = 4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полиплоидног (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) гамета уместо нормално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),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нераздвајања хромозома у анафази прве мејотичке деоб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4" descr="0749"/>
          <p:cNvPicPr/>
          <p:nvPr/>
        </p:nvPicPr>
        <p:blipFill>
          <a:blip r:embed="rId1"/>
          <a:srcRect l="19199" t="16520" r="0" b="0"/>
          <a:stretch/>
        </p:blipFill>
        <p:spPr>
          <a:xfrm>
            <a:off x="2286000" y="1905120"/>
            <a:ext cx="4802040" cy="449568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5"/>
          <p:cNvSpPr/>
          <p:nvPr/>
        </p:nvSpPr>
        <p:spPr>
          <a:xfrm>
            <a:off x="3581280" y="5562720"/>
            <a:ext cx="2590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Оплођењем диплоидног (2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 гамета хаплоидним (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</a:t>
            </a:r>
            <a:r>
              <a:rPr b="1" lang="sr-RS" sz="1200" spc="-1" strike="noStrike">
                <a:solidFill>
                  <a:srgbClr val="ff0000"/>
                </a:solidFill>
                <a:latin typeface="Arial"/>
                <a:ea typeface="Arial"/>
              </a:rPr>
              <a:t>триплоидни (3</a:t>
            </a:r>
            <a:r>
              <a:rPr b="1" lang="sr-Latn-RS" sz="1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ff0000"/>
                </a:solidFill>
                <a:latin typeface="Arial"/>
                <a:ea typeface="Arial"/>
              </a:rPr>
              <a:t>) зиго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3962520" y="457200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гамет  (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1143000" y="4572000"/>
            <a:ext cx="12193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ан гамет  (2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3200400" y="3276720"/>
            <a:ext cx="17524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анафази прве мејотичке деоб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867280" y="2209680"/>
            <a:ext cx="129564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3200400" y="2057400"/>
            <a:ext cx="12952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 прве мејотичке деоб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иплоидија је летална код чове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зимо је често у ћ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нтано побачених плодов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ртворођене дец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италних монстру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мора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 триплоид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3n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т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рион је често абнормала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ђе 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лацента је абнормал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и различито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ависности да ли је био полиплоидан гамет оца или мајк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.</cp:lastModifiedBy>
  <dcterms:modified xsi:type="dcterms:W3CDTF">2019-01-14T20:04:01Z</dcterms:modified>
  <cp:revision>291</cp:revision>
  <dc:subject/>
  <dc:title>HROMOZOMSKE ABERACIJE</dc:title>
</cp:coreProperties>
</file>